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0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38.wmf" ContentType="image/x-wmf"/>
  <Override PartName="/ppt/media/image34.jpeg" ContentType="image/jpeg"/>
  <Override PartName="/ppt/media/image37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D418-11CA-4004-81A8-E08DC226BA9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er quanto riguarda la valutazione, a richiesta dell’interessato, il periodo preso in oggetto dalla procedura di valutazione riguarda gli ultimi tre anni di servizio prestato dall’interessa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l caso in cui il servizio triennale non sia stato svolto interamente nella scuola di attuale servizio del docente, il dirigente scolastico acquisisce gli opportuni elementi di inform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riferimento alla riabilitazione, il Comitato annulla gli effetti delle sanzioni disciplinari inflitte ai docenti a condizione che il sanzionato abbia mantenuto unacondotta meritevole. Dall’annullamento degli effetti della sanzione non può derivare al sanzionato alcun diritto di risarcimento per la sanzione comunque scont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utte le sanzioni possono essere annullate a due anni di distanza dalla loro applicazione. La sospensione dall’insegnamento per sei mesi e l’utilizzazione, trascorso questo periodo, in compiti diversi dall’insegnamento o dalla funzione direttiva possono essere annullati allo scadere del quinto anno successivo all’applic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 queste due fattispecie il comitato opera con la presenza dei genitori e degli studenti, salvo che la valutazione del docente riguardi un membro del comitato che verrà sostituito dal consiglio di istitu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egnaposto intestazion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Segnaposto numero diapositiva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B2D6-64C6-4639-B028-F749864D8D5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egnaposto intestazion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Segnaposto numero diapositiva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985E-9D50-4ACB-B46F-EB361A792ED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egnaposto intestazion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Segnaposto numero diapositiva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0A86-5B32-40C3-9D79-A232EB9BD46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BA7-E105-488B-B411-F46240D1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B9F-EA21-44F5-B3F2-86AC46AB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17A-A5CF-4662-972A-01B2765F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E1F-5632-48A4-8B24-AC656B4E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D04-C899-4E67-A274-2A78ED7B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0DA-083A-437A-9C8B-A75A7E37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DCE-DDA4-4A2B-AAE7-9E377C00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740-9143-4F98-BF85-E01DC4D1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1A02-319E-4799-8770-E31EAAC2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3025-06D8-417A-B15B-F514F537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721-5362-40F2-89E1-4B5A2BCD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8D2C-364E-49B1-8732-BCE096FE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ahoma"/>
              </a:rPr>
              <a:t>a cura di Anna Maria Di Nocer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0044-46C9-4E22-A418-07DC05CF3297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docid=vzoCGQklonkXfM&amp;tbnid=s3a0mfhDY2KdzM:&amp;ved=0CAUQjRw&amp;url=http%3A%2F%2Fpolitica.excite.it%2F&amp;ei=IpZJU_uoDoXPsgaPi4DoCw&amp;bvm=bv.64542518,d.bGE&amp;psig=AFQjCNEQUtsgWYuWqeP2SsaruS5v50t0Bg&amp;ust=1397417850206757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0CAcQjRw&amp;url=http%3A%2F%2Fwww.isismagrinimarchetti.it%2Fcalendario-scolastico&amp;ei=UCc1VZrWEsTOaPOegJgB&amp;bvm=bv.91071109,d.ZGU&amp;psig=AFQjCNFP-0TSj_KzvBvMsn1GUko3t-fcSw&amp;ust=1429633190314694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ww.google.it/imgres?imgurl&amp;imgrefurl=http%3A%2F%2Fwww.vip.it%2Fsvizzera-nasce-il-partito-contro-le-diapositive-ed-il-power-point%2Friunione-aziendale%2F&amp;h=0&amp;w=0&amp;tbnid=d-lD2kdfaYcb6M&amp;zoom=1&amp;tbnh=195&amp;tbnw=258&amp;docid=XgcSJDc8vifEOM&amp;tbm=isch&amp;ei=H5CHU5LVGca0PPmXgZgL&amp;ved=0CAUQsCUoAQ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docid=3k6p6kAJIagXBM&amp;tbnid=r4E6oY3vwl_bkM:&amp;ved=0CAUQjRw&amp;url=http%3A%2F%2Fwww.adiantum.it%2Fpublic%2F2336-contratto-prematrimoniale--come-funziona-(se-funziona)-in-italia--.asp&amp;ei=c-SIU9mjLoGYO4m4gPAJ&amp;bvm=bv.67720277,d.d2k&amp;psig=AFQjCNEZcLlBQL8xBjXcUw7tZEPepWL8sg&amp;ust=1401566696267557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0CAcQjRw&amp;url=http%3A%2F%2Fwww.lasocietainclasse.it%2Flinks&amp;ei=C44zVdPwJZbxaL36gegP&amp;psig=AFQjCNFqRYCv2cMJZTaXgmbJtwkg0TZytA&amp;ust=1429528375532417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google.it/url?sa=i&amp;rct=j&amp;q=&amp;esrc=s&amp;source=images&amp;cd=&amp;cad=rja&amp;uact=8&amp;ved=&amp;url=http%3A%2F%2Fwww.domotica.it%2Fexpo%2Fschede%2Fkblue_srl_ita.htm&amp;ei=t40zVZrjCsvQ7Ab0moHoAQ&amp;psig=AFQjCNFqRYCv2cMJZTaXgmbJtwkg0TZytA&amp;ust=1429528375532417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www.google.it/url?sa=i&amp;rct=j&amp;q=&amp;esrc=s&amp;source=images&amp;cd=&amp;cad=rja&amp;uact=8&amp;ved=0CAcQjRw&amp;url=http%3A%2F%2Fwww.edeamicis.com%2FWEB3%2F!%2520!%2520%2520FORMAZIONE%2FFORMAZIONE.htm&amp;ei=QY4zVdOgLcrYat_pgNAF&amp;psig=AFQjCNFqRYCv2cMJZTaXgmbJtwkg0TZytA&amp;ust=1429528375532417" TargetMode="External"/><Relationship Id="rId6" Type="http://schemas.openxmlformats.org/officeDocument/2006/relationships/hyperlink" Target="http://www.google.it/url?sa=i&amp;rct=j&amp;q=&amp;esrc=s&amp;source=images&amp;cd=&amp;cad=rja&amp;uact=8&amp;ved=0CAcQjRw&amp;url=http%3A%2F%2Fwww.edeamicis.com%2FWEB3%2F!%2520!%2520%2520FORMAZIONE%2FFORMAZIONE.htm&amp;ei=QY4zVdOgLcrYat_pgNAF&amp;psig=AFQjCNFqRYCv2cMJZTaXgmbJtwkg0TZytA&amp;ust=1429528375532417" TargetMode="External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hyperlink" Target="http://www.google.it/url?sa=i&amp;rct=j&amp;q=&amp;esrc=s&amp;source=images&amp;cd=&amp;cad=rja&amp;uact=8&amp;ved=0CAcQjRw&amp;url=http%3A%2F%2Fwww.formazioneliguria.com%2Fcorsi-sicurezza%2Ffigure%2F55.html&amp;ei=lI4zVYvoAdPpaJ60gJAO&amp;psig=AFQjCNFG8k6LJCA0HLLWpLo_jezfEonL-A&amp;ust=1429528579202607" TargetMode="External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&amp;url=http%3A%2F%2Fwww.guide360.it%2Fdiventare-insegnante-di-sostegno.html&amp;ei=neUzVeCyO-S57gbS6YHACA&amp;bvm=bv.91071109,d.ZGU&amp;psig=AFQjCNFk2T2C3aKBXic4aDcICEbsUb-J8w&amp;ust=1429550878505820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0CAcQjRw&amp;url=http%3A%2F%2Fwww.gildacuneo.it%2F2013%2F07%2Fassegnazione-docenti-alle-classi-prerogativa-unilaterale-del-dirigente%2F&amp;ei=Y5YzVb_nNoOqaaqdgJAF&amp;psig=AFQjCNExq2LOcSJ3p4a0XSF0kHlkDF1Quw&amp;ust=1429530572587660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0CAcQjRw&amp;url=http%3A%2F%2Fwww.e-dna.it%2Fweb-agency%2Fformazione%2F&amp;ei=f-QzVcKXDs7oaJKagbgO&amp;bvm=bv.91071109,d.ZGU&amp;psig=AFQjCNEYX5fUugBazooCL_v275cxIluReA&amp;ust=1429550515219598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source=images&amp;cd=&amp;cad=rja&amp;uact=8&amp;ved=0CAcQjRw&amp;url=http%3A%2F%2Fwww.documentazione.info%2Fscuole-paritarie-in-europa-quanto-costano&amp;ei=hZQzVcrqDsL2avPwgOAC&amp;psig=AFQjCNFsVHEh4tWy8lfWJTeG3OP4WoLiDA&amp;ust=1429530104016073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google.it/url?sa=i&amp;rct=j&amp;q=&amp;esrc=s&amp;source=images&amp;cd=&amp;cad=rja&amp;uact=8&amp;ved=0CAcQjRw&amp;url=http%3A%2F%2Fwww.gildacuneo.it%2F2013%2F07%2Fassegnazione-docenti-alle-classi-prerogativa-unilaterale-del-dirigente%2F&amp;ei=Y5YzVb_nNoOqaaqdgJAF&amp;psig=AFQjCNExq2LOcSJ3p4a0XSF0kHlkDF1Quw&amp;ust=1429530572587660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tangolo 8"/>
          <p:cNvSpPr/>
          <p:nvPr/>
        </p:nvSpPr>
        <p:spPr>
          <a:xfrm>
            <a:off x="1547640" y="549360"/>
            <a:ext cx="6553440" cy="23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Palace Script MT"/>
                <a:ea typeface="Verdana"/>
              </a:rPr>
              <a:t>Ministero dell’Istruzione, dell’ Università e della Ricer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Verdana"/>
              </a:rPr>
              <a:t>Ufficio Scolastico Regionale per la Campa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DIREZIONE  GENERA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Immagine 9" descr=""/>
          <p:cNvPicPr/>
          <p:nvPr/>
        </p:nvPicPr>
        <p:blipFill>
          <a:blip r:embed="rId1"/>
          <a:stretch/>
        </p:blipFill>
        <p:spPr>
          <a:xfrm>
            <a:off x="3995640" y="333360"/>
            <a:ext cx="1224000" cy="1116000"/>
          </a:xfrm>
          <a:prstGeom prst="rect">
            <a:avLst/>
          </a:prstGeom>
          <a:ln w="0">
            <a:noFill/>
          </a:ln>
        </p:spPr>
      </p:pic>
      <p:pic>
        <p:nvPicPr>
          <p:cNvPr id="50" name="Rettangolo 10" descr=""/>
          <p:cNvPicPr/>
          <p:nvPr/>
        </p:nvPicPr>
        <p:blipFill>
          <a:blip r:embed="rId2"/>
          <a:stretch/>
        </p:blipFill>
        <p:spPr>
          <a:xfrm>
            <a:off x="1371600" y="4718160"/>
            <a:ext cx="6858000" cy="1347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3"/>
          <a:stretch/>
        </p:blipFill>
        <p:spPr>
          <a:xfrm>
            <a:off x="3564000" y="2762280"/>
            <a:ext cx="2520720" cy="2035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 due percorsi (anno di prova – anno di di formazione) si integrano ed è necessario il superamento di entrambi ai fini della conferma in ruo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l termine del periodo di prova e di formazione il docente sostiene un colloquio innanzi al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Comitato di valutazione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ella scuola  in cui  effettua l’anno di prov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9EEE-A4EB-4955-97E3-B7E316228992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258920" y="260280"/>
            <a:ext cx="619272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L’integrazione dei percors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C33C-7FC8-44C6-8538-7E615EFF6489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68360" y="2708280"/>
            <a:ext cx="8207280" cy="3673440"/>
          </a:xfrm>
          <a:prstGeom prst="rect">
            <a:avLst/>
          </a:prstGeom>
          <a:solidFill>
            <a:srgbClr val="ffffff"/>
          </a:solidFill>
          <a:ln w="6048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La legge n. 107/2015 introduce significativi cambiament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riguardo all’ anno di formazione e di prov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I commi da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115 al 120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 trattano  la materia , specificando che, dopo la nomina in ruolo, il personale docente effettua un anno di formazione e prova ai fini della conferma in ruo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In qualunque caso, la </a:t>
            </a:r>
            <a:r>
              <a:rPr b="1" lang="it-IT" sz="2400" spc="-1" strike="noStrike">
                <a:solidFill>
                  <a:srgbClr val="0000ff"/>
                </a:solidFill>
                <a:latin typeface="Calibri"/>
                <a:ea typeface="Arial"/>
              </a:rPr>
              <a:t>ripetizione del periodo di prova comporta la partecipazione alle connesse attività di formazion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, che sono da considerarsi parte integrante dello stesso servizio di pro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(art. 2 D.M. 850/2015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5" descr="https://encrypted-tbn0.gstatic.com/images?q=tbn:ANd9GcRz9f6kb02ZInVTl2aP-_0sjhoqGJL49w28shD95cxe9nkAKDR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620640"/>
            <a:ext cx="3240000" cy="18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G:\Comunicazione Istituzionale\ARCHIVIO FOTOGRAFICO\JUNIOR CONSLUTING\Formzione manageriale.jpg"/>
          <p:cNvPicPr/>
          <p:nvPr/>
        </p:nvPicPr>
        <p:blipFill>
          <a:blip r:embed="rId3"/>
          <a:stretch/>
        </p:blipFill>
        <p:spPr>
          <a:xfrm>
            <a:off x="5580000" y="620640"/>
            <a:ext cx="2952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'obbligo ad effettuare il periodo di formazione e di prova riguard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docenti </a:t>
            </a:r>
            <a:r>
              <a:rPr b="1" lang="it-IT" sz="2400" spc="-1" strike="noStrike">
                <a:solidFill>
                  <a:srgbClr val="3399ff"/>
                </a:solidFill>
                <a:latin typeface="Calibri"/>
              </a:rPr>
              <a:t>neo-assunti con incarico a tempo indeterminato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he aspirino alla conferma in ruol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docenti per i quali sia stata richiesta la </a:t>
            </a: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proroga del periodo di formazione e prova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o che </a:t>
            </a: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non abbiano potuto completarlo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gli anni precedenti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docenti per i quali sia stato disposto il </a:t>
            </a:r>
            <a:r>
              <a:rPr b="1" lang="it-IT" sz="2400" spc="-1" strike="noStrike">
                <a:solidFill>
                  <a:srgbClr val="376092"/>
                </a:solidFill>
                <a:latin typeface="Calibri"/>
              </a:rPr>
              <a:t>passaggio di ruol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docenti per i quali sia stata espressa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valutazione negativa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el periodo di formazione e di prova. In tale ultimo caso è previsto un secondo periodo di formazione e di prova non rinnovabi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F3CD-350A-4F35-9F04-E3054E6F17F3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466560" y="26028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Destinatari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del periodo  di formazione e di prov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71280" y="2707920"/>
            <a:ext cx="6777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superamento del periodo di formazione e prova è subordinato allo svolgimento di servizio effettivamente prestato per almeno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80 giorn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l corso dell’anno scolastico, di cui almeno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20 per le attività didattich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art. 3 D.M. 850/201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258920" y="260280"/>
            <a:ext cx="619272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Durata e servizi utili ai fini del periodo di formazione e di prov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7" descr="https://encrypted-tbn1.gstatic.com/images?q=tbn:ANd9GcSsCHTj4DSLJceqsyh3EMFM5Zd7UTef53BplCYgBiIDxUCvYnhbC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628640"/>
            <a:ext cx="2448000" cy="117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907920"/>
            <a:ext cx="8229600" cy="482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80 giorni </a:t>
            </a:r>
            <a:r>
              <a:rPr b="1" lang="it-IT" sz="2400" spc="-1" strike="noStrike">
                <a:solidFill>
                  <a:srgbClr val="3333cc"/>
                </a:solidFill>
                <a:latin typeface="Calibri"/>
              </a:rPr>
              <a:t>vanno considerat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e attività connesse al servizio scolastic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periodi di sospensione delle lezioni e delle attività didattich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gli esami, gli scrutini ed ogni altro impegno di servizi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primo mese del periodo di astensione obbligatoria dal servizio per gravidan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80 giorni </a:t>
            </a: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non vanno considerat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giorn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 congedo ordinario e straordina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 aspettativa a qualunque titol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ccia a destra 3"/>
          <p:cNvSpPr/>
          <p:nvPr/>
        </p:nvSpPr>
        <p:spPr>
          <a:xfrm>
            <a:off x="468360" y="141300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Freccia a destra 5"/>
          <p:cNvSpPr/>
          <p:nvPr/>
        </p:nvSpPr>
        <p:spPr>
          <a:xfrm>
            <a:off x="468360" y="184464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reccia a destra 6"/>
          <p:cNvSpPr/>
          <p:nvPr/>
        </p:nvSpPr>
        <p:spPr>
          <a:xfrm>
            <a:off x="468360" y="227664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Freccia a destra 7"/>
          <p:cNvSpPr/>
          <p:nvPr/>
        </p:nvSpPr>
        <p:spPr>
          <a:xfrm>
            <a:off x="468360" y="270828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Freccia a destra 8"/>
          <p:cNvSpPr/>
          <p:nvPr/>
        </p:nvSpPr>
        <p:spPr>
          <a:xfrm>
            <a:off x="468360" y="436572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Freccia a destra 9"/>
          <p:cNvSpPr/>
          <p:nvPr/>
        </p:nvSpPr>
        <p:spPr>
          <a:xfrm>
            <a:off x="468360" y="486900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63480" y="1773360"/>
            <a:ext cx="7724880" cy="28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e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20 giorn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 attività didattica </a:t>
            </a:r>
            <a:r>
              <a:rPr b="1" lang="it-IT" sz="2400" spc="-1" strike="noStrike">
                <a:solidFill>
                  <a:srgbClr val="31859c"/>
                </a:solidFill>
                <a:latin typeface="Calibri"/>
              </a:rPr>
              <a:t>vanno compres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giorni effettivi di insegnamento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giorni impiegati presso la sede di servizio per ogni altra attività preordinata al migliore svolgimento dell’azione didattica, ivi comprese la valutazione, la progettazione, la formazione, le attività collegia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ccia a destra 3"/>
          <p:cNvSpPr/>
          <p:nvPr/>
        </p:nvSpPr>
        <p:spPr>
          <a:xfrm>
            <a:off x="611280" y="227664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Freccia a destra 4"/>
          <p:cNvSpPr/>
          <p:nvPr/>
        </p:nvSpPr>
        <p:spPr>
          <a:xfrm>
            <a:off x="611280" y="278136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2205000"/>
            <a:ext cx="82296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caso di differimento della presa di servizio, il periodo di formazione e prova può essere svolto nell’anno scolastico di decorrenza giuridica della nomina anche presso l’istituzione scolastica statale ove è svolta l’eventuale supplenza annuale o sino al termine del servizio purché sul </a:t>
            </a:r>
            <a:r>
              <a:rPr b="1" lang="it-IT" sz="2400" spc="-1" strike="noStrike">
                <a:solidFill>
                  <a:srgbClr val="0033cc"/>
                </a:solidFill>
                <a:latin typeface="Calibri"/>
              </a:rPr>
              <a:t>medesimo posto o classe di concorso aff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tale caso la formazione è effettuata con riferimento al posto  o alla classe i concorso di immissione in ruol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ED89-25C3-4019-9862-D7F0B627524B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466560" y="26028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Differimento della presa di servizi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9280" y="1413000"/>
            <a:ext cx="878544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docente che presta servizio in qualità di supplente può svolgere,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su richiesta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 a seguito di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autorizzazione del Dirigente dell’Ambito Territorial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mpetente, il periodo di prova e formazione nella scuola di servizio, nel rispetto dei seguenti  criter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) la supplenza su posto di </a:t>
            </a:r>
            <a:r>
              <a:rPr b="1" lang="it-IT" sz="2000" spc="-1" strike="noStrike" u="sng">
                <a:solidFill>
                  <a:srgbClr val="3366ff"/>
                </a:solidFill>
                <a:uFillTx/>
                <a:latin typeface="Calibri"/>
              </a:rPr>
              <a:t>sostegno per la scuola dell’infanzia e per la scuola primaria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è valida indifferentemente ai fini dello svolgimento del periodo di prova su posto di sostegno per la scuola dell’infanzia o primaria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b) la supplenza su posto di </a:t>
            </a:r>
            <a:r>
              <a:rPr b="1" lang="it-IT" sz="2000" spc="-1" strike="noStrike" u="sng">
                <a:solidFill>
                  <a:srgbClr val="3333cc"/>
                </a:solidFill>
                <a:uFillTx/>
                <a:latin typeface="Calibri"/>
              </a:rPr>
              <a:t>sostegno per la scuola secondaria di primo e di secondo grad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è valida indifferentemente ai fini dello svolgimento del periodo di prova su posto di sostegno per la scuola secondaria di primo e di secondo grado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) per le classi di concorso, la supplenza è valida sullo specifico grado di istruzione e in considerazione della </a:t>
            </a:r>
            <a:r>
              <a:rPr b="1" lang="it-IT" sz="2000" spc="-1" strike="noStrike" u="sng">
                <a:solidFill>
                  <a:srgbClr val="0000ff"/>
                </a:solidFill>
                <a:uFillTx/>
                <a:latin typeface="Calibri"/>
              </a:rPr>
              <a:t>corrispondenza degli insegnamenti impartiti con quelli relativi alla classe di concorso di immissione in ruol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5440-0450-4E83-938D-71263261C4ED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466560" y="26028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Particolari situazioni di servizio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9DD0-DFFC-454D-AC37-A00E5C65F217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2276640"/>
            <a:ext cx="8207280" cy="1512720"/>
          </a:xfrm>
          <a:prstGeom prst="rect">
            <a:avLst/>
          </a:prstGeom>
          <a:solidFill>
            <a:srgbClr val="99ccff"/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  <a:ea typeface="Arial"/>
              </a:rPr>
              <a:t>Aspetti didattici, organizzativi e amministrativ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2" descr="https://encrypted-tbn3.gstatic.com/images?q=tbn:ANd9GcRE12sw25IubcbfMy_5p05FlaU48KnnV_6BIM44tGhXwbOueKzAtDPjHEP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221000"/>
            <a:ext cx="2159280" cy="1497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ITF016056"/>
          <p:cNvPicPr/>
          <p:nvPr/>
        </p:nvPicPr>
        <p:blipFill>
          <a:blip r:embed="rId3"/>
          <a:stretch/>
        </p:blipFill>
        <p:spPr>
          <a:xfrm>
            <a:off x="5940360" y="549360"/>
            <a:ext cx="1944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estate%202006%20grecia3%20049"/>
          <p:cNvPicPr/>
          <p:nvPr/>
        </p:nvPicPr>
        <p:blipFill>
          <a:blip r:embed="rId4"/>
          <a:stretch/>
        </p:blipFill>
        <p:spPr>
          <a:xfrm>
            <a:off x="900000" y="476280"/>
            <a:ext cx="1800360" cy="1440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wko138"/>
          <p:cNvPicPr/>
          <p:nvPr/>
        </p:nvPicPr>
        <p:blipFill>
          <a:blip r:embed="rId5"/>
          <a:stretch/>
        </p:blipFill>
        <p:spPr>
          <a:xfrm>
            <a:off x="5940360" y="4221000"/>
            <a:ext cx="2087640" cy="1497240"/>
          </a:xfrm>
          <a:prstGeom prst="rect">
            <a:avLst/>
          </a:prstGeom>
          <a:ln w="0">
            <a:noFill/>
          </a:ln>
        </p:spPr>
      </p:pic>
      <p:sp>
        <p:nvSpPr>
          <p:cNvPr id="138" name="Segnaposto piè di pagina 9"/>
          <p:cNvSpPr/>
          <p:nvPr/>
        </p:nvSpPr>
        <p:spPr>
          <a:xfrm>
            <a:off x="2916360" y="6237360"/>
            <a:ext cx="395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ahom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nna Maria Di Nocer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Dirigente Scolastic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Referente regionale formazione docenti neoassun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Il periodo di prova e di formazione dei docenti e degli educatori neo assunti ha l’obiettivo di verificare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il </a:t>
            </a:r>
            <a:r>
              <a:rPr b="1" lang="it-IT" sz="2500" spc="-1" strike="noStrike">
                <a:solidFill>
                  <a:srgbClr val="0000ff"/>
                </a:solidFill>
                <a:latin typeface="Calibri"/>
              </a:rPr>
              <a:t>corretto possesso ed esercizio delle competenze culturali, disciplinari, didattiche e metodologiche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con riferimento ai nuclei fondanti dei saperi, ai traguardi di competenza e agli obiettivi di apprendimento previsti dagli ordinamenti vigenti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il </a:t>
            </a:r>
            <a:r>
              <a:rPr b="1" lang="it-IT" sz="2500" spc="-1" strike="noStrike">
                <a:solidFill>
                  <a:srgbClr val="3366ff"/>
                </a:solidFill>
                <a:latin typeface="Calibri"/>
              </a:rPr>
              <a:t>corretto possesso ed esercizio delle competenze relazionali, organizzative e gestionali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it-IT" sz="2500" spc="-1" strike="noStrike">
                <a:solidFill>
                  <a:srgbClr val="0033cc"/>
                </a:solidFill>
                <a:latin typeface="Calibri"/>
              </a:rPr>
              <a:t>osservanza dei doveri connessi con lo status di dipendente pubblico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e inerenti la funzione docente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it-IT" sz="2500" spc="-1" strike="noStrike">
                <a:solidFill>
                  <a:srgbClr val="376092"/>
                </a:solidFill>
                <a:latin typeface="Calibri"/>
              </a:rPr>
              <a:t>partecipazione alle attività formative e il raggiungimento degli obiettivi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dalle stesse previs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611280" y="260280"/>
            <a:ext cx="784836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riteri per la valutazione del docente in periodo di formazione e di prov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Freccia a destra 4"/>
          <p:cNvSpPr/>
          <p:nvPr/>
        </p:nvSpPr>
        <p:spPr>
          <a:xfrm>
            <a:off x="108000" y="2276640"/>
            <a:ext cx="360360" cy="43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reccia a destra 5"/>
          <p:cNvSpPr/>
          <p:nvPr/>
        </p:nvSpPr>
        <p:spPr>
          <a:xfrm>
            <a:off x="108000" y="3860640"/>
            <a:ext cx="360360" cy="43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Freccia a destra 6"/>
          <p:cNvSpPr/>
          <p:nvPr/>
        </p:nvSpPr>
        <p:spPr>
          <a:xfrm>
            <a:off x="108000" y="4581360"/>
            <a:ext cx="360360" cy="43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Freccia a destra 7"/>
          <p:cNvSpPr/>
          <p:nvPr/>
        </p:nvSpPr>
        <p:spPr>
          <a:xfrm>
            <a:off x="108000" y="5229360"/>
            <a:ext cx="360360" cy="43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360" y="836280"/>
            <a:ext cx="822960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. Oggetto, finalità e destinata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Finalità dell’anno di pro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Fonti norm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Rapporto tra anno di prova e anno di forma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L’integrazione dei percor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Destinatari dell’anno di  prova e dell’anno di forma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Durata e servizi utili ai fini del periodo di formazione e di pro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Differimento della presa di serviz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Particolari  situazioni di serviz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2. Aspetti didattici, organizzativi e amministrati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Criteri per la valutazione del docente in periodo di formazione e di pro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Bilancio delle competenze, analisi dei bisogni e obiettivi della forma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Le quattro fasi del percorso forma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Il Docente Tu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Il portfolio profession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Procedure per la valutazione del periodo di formazione e di pro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             </a:t>
            </a:r>
            <a:r>
              <a:rPr b="0" lang="it-IT" sz="1800" spc="-1" strike="noStrike">
                <a:solidFill>
                  <a:srgbClr val="17375e"/>
                </a:solidFill>
                <a:latin typeface="Calibri"/>
              </a:rPr>
              <a:t>La conferma in ruo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830C-EC55-4E02-BE23-A4B10B16A0C6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2195640" y="44280"/>
            <a:ext cx="4321080" cy="86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ONTENUT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6840" y="105264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Per dette finalità il Dirigente Scolastico mette a disposizione del docente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il Piano dell’Offerta Formativa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la documentazione tecnico-didattica delle classi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di pertinenza del docente neo immesso in ruol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Sulla base di  tali documenti il docente predispon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la  programmazione annuale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sugli </a:t>
            </a:r>
            <a:r>
              <a:rPr b="1" lang="it-IT" sz="2500" spc="-1" strike="noStrike">
                <a:solidFill>
                  <a:srgbClr val="0033cc"/>
                </a:solidFill>
                <a:latin typeface="Calibri"/>
              </a:rPr>
              <a:t>esiti di apprendimento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attesi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sulle </a:t>
            </a:r>
            <a:r>
              <a:rPr b="1" lang="it-IT" sz="2500" spc="-1" strike="noStrike">
                <a:solidFill>
                  <a:srgbClr val="0033cc"/>
                </a:solidFill>
                <a:latin typeface="Calibri"/>
              </a:rPr>
              <a:t>metodologie didattiche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da utilizzar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sulle </a:t>
            </a:r>
            <a:r>
              <a:rPr b="1" lang="it-IT" sz="2500" spc="-1" strike="noStrike">
                <a:solidFill>
                  <a:srgbClr val="0033cc"/>
                </a:solidFill>
                <a:latin typeface="Calibri"/>
              </a:rPr>
              <a:t>strategie inclusive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per gli alunni BES e per le eccellenze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sugli </a:t>
            </a:r>
            <a:r>
              <a:rPr b="1" lang="it-IT" sz="2500" spc="-1" strike="noStrike">
                <a:solidFill>
                  <a:srgbClr val="0033cc"/>
                </a:solidFill>
                <a:latin typeface="Calibri"/>
              </a:rPr>
              <a:t>strumenti e sui criteri di valutazione 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degli alunni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art. 4 D.M. 850/201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libro_aperto"/>
          <p:cNvPicPr/>
          <p:nvPr/>
        </p:nvPicPr>
        <p:blipFill>
          <a:blip r:embed="rId1"/>
          <a:stretch/>
        </p:blipFill>
        <p:spPr>
          <a:xfrm>
            <a:off x="7207200" y="1628640"/>
            <a:ext cx="1252440" cy="107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Foto%20Protocollo"/>
          <p:cNvPicPr/>
          <p:nvPr/>
        </p:nvPicPr>
        <p:blipFill>
          <a:blip r:embed="rId2"/>
          <a:stretch/>
        </p:blipFill>
        <p:spPr>
          <a:xfrm>
            <a:off x="250920" y="3357720"/>
            <a:ext cx="1296720" cy="9936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108000" y="44280"/>
            <a:ext cx="2014560" cy="10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riterio a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6840" y="1308240"/>
            <a:ext cx="7715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i fini della verifica del criterio b) sono valut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l’</a:t>
            </a:r>
            <a:r>
              <a:rPr b="1" lang="it-IT" sz="2800" spc="-1" strike="noStrike">
                <a:solidFill>
                  <a:srgbClr val="0033cc"/>
                </a:solidFill>
                <a:latin typeface="Calibri"/>
              </a:rPr>
              <a:t>attitudine collaborativa del docent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ei contesti didattici, progettuali, collegiali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 le famiglie e con il personale scolastico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la </a:t>
            </a:r>
            <a:r>
              <a:rPr b="1" lang="it-IT" sz="2800" spc="-1" strike="noStrike">
                <a:solidFill>
                  <a:srgbClr val="0033cc"/>
                </a:solidFill>
                <a:latin typeface="Calibri"/>
              </a:rPr>
              <a:t>capacità di affrontare situazioni relazionali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mplesse e dinamiche interculturali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la </a:t>
            </a:r>
            <a:r>
              <a:rPr b="1" lang="it-IT" sz="2800" spc="-1" strike="noStrike">
                <a:solidFill>
                  <a:srgbClr val="0033cc"/>
                </a:solidFill>
                <a:latin typeface="Calibri"/>
              </a:rPr>
              <a:t>partecipazione attiva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 il sostegno ai piani di miglioramento dell’istituzione scolastic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08000" y="44280"/>
            <a:ext cx="2014560" cy="10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riterio b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7308720" y="4941720"/>
            <a:ext cx="1219320" cy="1009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tavolo_lavoro"/>
          <p:cNvPicPr/>
          <p:nvPr/>
        </p:nvPicPr>
        <p:blipFill>
          <a:blip r:embed="rId2"/>
          <a:stretch/>
        </p:blipFill>
        <p:spPr>
          <a:xfrm>
            <a:off x="1258920" y="5661000"/>
            <a:ext cx="1800360" cy="1197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PAA041000087"/>
          <p:cNvPicPr/>
          <p:nvPr/>
        </p:nvPicPr>
        <p:blipFill>
          <a:blip r:embed="rId3"/>
          <a:stretch/>
        </p:blipFill>
        <p:spPr>
          <a:xfrm>
            <a:off x="7596360" y="260280"/>
            <a:ext cx="114300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6840" y="1308240"/>
            <a:ext cx="7715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Ai fini della verifica del criterio c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costituiscono parametri di riferimen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D. Lgs. n. 165/2001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DPR n. 62/2013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(Regolamento recante il Codice di comportamento dei dipendenti pubblici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regolamento dell’istituzione scolastic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108000" y="44280"/>
            <a:ext cx="2014560" cy="10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riterio c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6840" y="1308240"/>
            <a:ext cx="7715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Ai fini della verifica del criterio d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occorre tenere in considerazione quanto specificato nelle seguenti diapositive dedicate al bilancio delle competenze, ai bisogni formativi e agli obiettivi della formazio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08000" y="44280"/>
            <a:ext cx="2014560" cy="10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riterio d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6840" y="1668600"/>
            <a:ext cx="4691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Il Docente neo immesso in ruolo, entro  il secondo mese di attività, deve predisporre, con la collaborazione del Docente Tutor, un </a:t>
            </a:r>
            <a:r>
              <a:rPr b="1" lang="it-IT" sz="2700" spc="-1" strike="noStrike">
                <a:solidFill>
                  <a:srgbClr val="000000"/>
                </a:solidFill>
                <a:latin typeface="Calibri"/>
              </a:rPr>
              <a:t>primo bilancio in forma di autovalutazione strutturata </a:t>
            </a: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sulle proprie competenze, in modo da far emergere i punti  da potenziare, per elaborare un </a:t>
            </a:r>
            <a:r>
              <a:rPr b="1" lang="it-IT" sz="2700" spc="-1" strike="noStrike">
                <a:solidFill>
                  <a:srgbClr val="000000"/>
                </a:solidFill>
                <a:latin typeface="Calibri"/>
              </a:rPr>
              <a:t>progetto personalizzato di formazione in servizi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611280" y="260280"/>
            <a:ext cx="784836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Bilancio di competenze, bisogni formativi e obiettivi della formazion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ttangolo arrotondato 8"/>
          <p:cNvSpPr/>
          <p:nvPr/>
        </p:nvSpPr>
        <p:spPr>
          <a:xfrm>
            <a:off x="5940360" y="184464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imo bilancio delle competen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ttangolo arrotondato 9"/>
          <p:cNvSpPr/>
          <p:nvPr/>
        </p:nvSpPr>
        <p:spPr>
          <a:xfrm>
            <a:off x="5940360" y="486900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rogetto personalizzato di formazione in serviz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5" descr="penna"/>
          <p:cNvPicPr/>
          <p:nvPr/>
        </p:nvPicPr>
        <p:blipFill>
          <a:blip r:embed="rId1"/>
          <a:stretch/>
        </p:blipFill>
        <p:spPr>
          <a:xfrm>
            <a:off x="6156360" y="3141720"/>
            <a:ext cx="1915920" cy="138600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552840" y="404640"/>
            <a:ext cx="5122800" cy="58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Dirigente Scolastico assieme al docente neo immesso in ruolo, sentito il Docente Tutor, in relazione ai bisogni della scuola stabiliscono, con un apposito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atto per lo sviluppo professional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gli obiettivi di sviluppo delle competenze culturali, disciplinari, didattico-metodologiche e relazionali da raggiungere o migliorare attravers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attività formative previste nell’anno di prov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partecipazione alle attività formative attivate dall’istituzione scolastic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eventuale utilizzo della carta elettronica per l’aggiornamen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http://www.adiantum.it/public/news/263201118550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989000"/>
            <a:ext cx="2233800" cy="3094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6840" y="947880"/>
            <a:ext cx="3754440" cy="49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l termine del periodo di prova il Docente neo immesso in ruolo, con la supervisione del Tutor, traccia un nuovo bilancio di competenze per registrare i progressi professionali e gli eventuali nuovi sviluppi da ipotizz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ttangolo arrotondato 6"/>
          <p:cNvSpPr/>
          <p:nvPr/>
        </p:nvSpPr>
        <p:spPr>
          <a:xfrm>
            <a:off x="5940360" y="184464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econdo  bilancio delle competen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7" descr="firma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033960" y="3500280"/>
            <a:ext cx="2210040" cy="1343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331E-83A2-4C4A-B756-B817884323FF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468360" y="40464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Le quattro fasi del percorso formativ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042920" y="1916280"/>
          <a:ext cx="7201080" cy="2287440"/>
        </p:xfrm>
        <a:graphic>
          <a:graphicData uri="http://schemas.openxmlformats.org/drawingml/2006/table">
            <a:tbl>
              <a:tblPr/>
              <a:tblGrid>
                <a:gridCol w="1559160"/>
                <a:gridCol w="1393560"/>
                <a:gridCol w="1440000"/>
                <a:gridCol w="1504800"/>
                <a:gridCol w="1303560"/>
              </a:tblGrid>
              <a:tr h="174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ontri propedeutici e di restituzione fi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Laboratori formativi dedic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15968"/>
                          </a:solidFill>
                          <a:latin typeface="Calibri"/>
                        </a:rPr>
                        <a:t>Peer  to p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215968"/>
                          </a:solidFill>
                          <a:latin typeface="Calibri"/>
                        </a:rPr>
                        <a:t>e osservazione in c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zione on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O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1" name="AutoShape 10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12" descr="https://encrypted-tbn2.gstatic.com/images?q=tbn:ANd9GcTpyo4T7wlxEk2EG99o5bx6HTFFKtFzBL5fjDwra3J6ZpSlQ6l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4221000"/>
            <a:ext cx="1439640" cy="1295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https://encrypted-tbn1.gstatic.com/images?q=tbn:ANd9GcRttdHG5ib5-XiJJU92KxyTFMh5EDR1FdSbAHZQvpYguTzJjJ9_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4360" y="4221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16">
            <a:hlinkClick r:id="rId5"/>
          </p:cNvPr>
          <p:cNvSpPr/>
          <p:nvPr/>
        </p:nvSpPr>
        <p:spPr>
          <a:xfrm>
            <a:off x="5400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18">
            <a:hlinkClick r:id="rId6"/>
          </p:cNvPr>
          <p:cNvSpPr/>
          <p:nvPr/>
        </p:nvSpPr>
        <p:spPr>
          <a:xfrm>
            <a:off x="54000" y="-1371600"/>
            <a:ext cx="28573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22" descr="http://www.edeamicis.com/WEB3/!%20%20%20%20%20%20%20%20%20aom/omini.jpg"/>
          <p:cNvPicPr/>
          <p:nvPr/>
        </p:nvPicPr>
        <p:blipFill>
          <a:blip r:embed="rId7"/>
          <a:stretch/>
        </p:blipFill>
        <p:spPr>
          <a:xfrm>
            <a:off x="1117440" y="4251240"/>
            <a:ext cx="1438560" cy="1409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4" descr="http://www.edeamicis.com/WEB3/!%20%20%20%20%20%20%20%20%20aom/61.jpg"/>
          <p:cNvPicPr/>
          <p:nvPr/>
        </p:nvPicPr>
        <p:blipFill>
          <a:blip r:embed="rId8"/>
          <a:stretch/>
        </p:blipFill>
        <p:spPr>
          <a:xfrm>
            <a:off x="4098960" y="4253040"/>
            <a:ext cx="1552680" cy="1407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6" descr="https://encrypted-tbn2.gstatic.com/images?q=tbn:ANd9GcQXrecnrV7H57B2rnD2pazUoNyL_gupKglnML7XS_pUVfBw8pFuF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627280" y="4221000"/>
            <a:ext cx="144000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Piano di formazione prevede un monte ore svolto in collaborazione con il tutor di scuola e dedicato a momenti di tutoraggio e di osservazione reciproca, di affiancamento nel lavoro didattico, di riflessione e di documentaz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Questa modalità innovativa, avviata nel corso dell’a.s. 2014/2015,  è stata pensata nell’intento di curvare il periodo di prova  verso una dimensione d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concreta esperienza sul campo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comprendendo momenti d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reciproca osservazione,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valorizzando le professionalità e le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competenze dei docenti più esper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8DB2-CE1F-46EE-B79A-A455735E4C07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466560" y="18900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 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Il Docente Tuto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10" descr="http://www.lagattasolution.com/wp-content/uploads/2014/10/collab.jpg"/>
          <p:cNvPicPr/>
          <p:nvPr/>
        </p:nvPicPr>
        <p:blipFill>
          <a:blip r:embed="rId1"/>
          <a:stretch/>
        </p:blipFill>
        <p:spPr>
          <a:xfrm>
            <a:off x="7164360" y="5229360"/>
            <a:ext cx="1657440" cy="1268280"/>
          </a:xfrm>
          <a:prstGeom prst="rect">
            <a:avLst/>
          </a:prstGeom>
          <a:ln w="0">
            <a:noFill/>
          </a:ln>
        </p:spPr>
      </p:pic>
      <p:sp>
        <p:nvSpPr>
          <p:cNvPr id="183" name="Rettangolo arrotondato 7"/>
          <p:cNvSpPr/>
          <p:nvPr/>
        </p:nvSpPr>
        <p:spPr>
          <a:xfrm>
            <a:off x="826920" y="5516640"/>
            <a:ext cx="6048720" cy="105408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ffff"/>
                </a:solidFill>
                <a:uFillTx/>
                <a:latin typeface="Calibri"/>
              </a:rPr>
              <a:t>Sono criteri prioritari per la designazione del docente tutor il possesso di uno o più tra i titoli  previsti  dall’allegato A, tabella 1 del D.M. 11.11.20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26920" y="1603440"/>
            <a:ext cx="727416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docente tutor svolge i seguenti compiti fondamental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accogli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il neo-assunto nella comunità professional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70c0"/>
                </a:solidFill>
                <a:latin typeface="Calibri"/>
              </a:rPr>
              <a:t>favorisce la sua partecipazion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i diversi momenti della vita collegiale della scuol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esercita ogni utile forma di ascolto, consulenza e collaborazion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r migliorare la qualità e l’efficacia dell’insegnamen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21596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15968"/>
                </a:solidFill>
                <a:latin typeface="Calibri"/>
              </a:rPr>
              <a:t>predispone momenti di reciproca osservazion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peer to pee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68360" y="18900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Compiti del tuto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5" descr="https://encrypted-tbn3.gstatic.com/images?q=tbn:ANd9GcQEIgKCHED7_6_58fbgRcNty_7idZzqlUnhCqAid8D1kkmhM9a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189000"/>
            <a:ext cx="158256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129F-8309-4A55-A300-3E010695C5F0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68360" y="1987560"/>
            <a:ext cx="8207280" cy="1512720"/>
          </a:xfrm>
          <a:prstGeom prst="rect">
            <a:avLst/>
          </a:prstGeom>
          <a:solidFill>
            <a:srgbClr val="99ccff"/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  <a:ea typeface="Arial"/>
              </a:rPr>
              <a:t>Oggetto, finalità e destinata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8" descr="https://encrypted-tbn0.gstatic.com/images?q=tbn:ANd9GcT5CDNd9dYEtKh5gIrx78Bs-9KtK7TGWXuKQ77QfSeZdNR1Utb2Y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437000"/>
            <a:ext cx="3600720" cy="1473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br9_infanzia_d"/>
          <p:cNvPicPr/>
          <p:nvPr/>
        </p:nvPicPr>
        <p:blipFill>
          <a:blip r:embed="rId3"/>
          <a:stretch/>
        </p:blipFill>
        <p:spPr>
          <a:xfrm>
            <a:off x="5867280" y="299880"/>
            <a:ext cx="2433600" cy="1473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OT"/>
          <p:cNvPicPr/>
          <p:nvPr/>
        </p:nvPicPr>
        <p:blipFill>
          <a:blip r:embed="rId4">
            <a:lum bright="14000"/>
          </a:blip>
          <a:stretch/>
        </p:blipFill>
        <p:spPr>
          <a:xfrm>
            <a:off x="755640" y="189000"/>
            <a:ext cx="2303640" cy="1608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46670-Scuola2"/>
          <p:cNvPicPr/>
          <p:nvPr/>
        </p:nvPicPr>
        <p:blipFill>
          <a:blip r:embed="rId5"/>
          <a:stretch/>
        </p:blipFill>
        <p:spPr>
          <a:xfrm>
            <a:off x="5292720" y="4437000"/>
            <a:ext cx="3240000" cy="1549440"/>
          </a:xfrm>
          <a:prstGeom prst="rect">
            <a:avLst/>
          </a:prstGeom>
          <a:ln w="0">
            <a:noFill/>
          </a:ln>
        </p:spPr>
      </p:pic>
      <p:sp>
        <p:nvSpPr>
          <p:cNvPr id="61" name="Segnaposto piè di pagina 9"/>
          <p:cNvSpPr/>
          <p:nvPr/>
        </p:nvSpPr>
        <p:spPr>
          <a:xfrm>
            <a:off x="2916360" y="6237360"/>
            <a:ext cx="395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ahom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nna Maria Di Nocer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Dirigente Scolastic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Referente regionale formazione docenti neoassun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700000" y="1599840"/>
            <a:ext cx="5986440" cy="4853160"/>
          </a:xfrm>
          <a:prstGeom prst="rect">
            <a:avLst/>
          </a:prstGeom>
          <a:solidFill>
            <a:srgbClr val="66ffff">
              <a:alpha val="1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Nel corso del periodo di formazione il docente neo-assunto cura la predisposizione di un proprio portfolio profession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l portfoli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è suddiviso in 4 part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) descrizione del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curriculum professional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el docent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elaborazione di un bilancio di competenz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all’inizio del percorso formativ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documentazione  di fasi significativ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ella progettazione didattica, delle attività svolte e delle  verifiche intrapres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)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realizzazione di un bilancio conclusiv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 previsione di un piano di sviluppo profession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5799-D469-4B4F-9494-488EE3697E70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466560" y="18900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Il portfolio professiona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6" descr="https://encrypted-tbn0.gstatic.com/images?q=tbn:ANd9GcSDzs7mgKYoU-oT0hgkSybSTY_RV7HN7Yr0i94XQ-xjjSP54sJw"/>
          <p:cNvPicPr/>
          <p:nvPr/>
        </p:nvPicPr>
        <p:blipFill>
          <a:blip r:embed="rId1"/>
          <a:stretch/>
        </p:blipFill>
        <p:spPr>
          <a:xfrm>
            <a:off x="468360" y="2708280"/>
            <a:ext cx="215892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ttangolo arrotondato 4"/>
          <p:cNvSpPr/>
          <p:nvPr/>
        </p:nvSpPr>
        <p:spPr>
          <a:xfrm>
            <a:off x="611280" y="2133720"/>
            <a:ext cx="5256000" cy="4464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Al termine dell’anno di formazione e di prova, nel periodo intercorrente tra il termine delle attività didattiche, compresi gli esami di qualifica e di Stato, e la conclusione dell’anno scolastico, il Comitato di valutazione è convocato dal Dirigente Scolastico per procedere all’espressione del parere sul superamento del periodo di formazione e di pro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611280" y="260280"/>
            <a:ext cx="784836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Procedure per la valutazione del periodo di formazione e di prov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2" descr="http://archivio.isfol.it/DocEditor/test/Image/label4.JPG"/>
          <p:cNvPicPr/>
          <p:nvPr/>
        </p:nvPicPr>
        <p:blipFill>
          <a:blip r:embed="rId1"/>
          <a:stretch/>
        </p:blipFill>
        <p:spPr>
          <a:xfrm>
            <a:off x="6227640" y="3357720"/>
            <a:ext cx="2772000" cy="1868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ttangolo arrotondato 5"/>
          <p:cNvSpPr/>
          <p:nvPr/>
        </p:nvSpPr>
        <p:spPr>
          <a:xfrm>
            <a:off x="468360" y="1916280"/>
            <a:ext cx="5616360" cy="4608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Nella nuova regia del comitato, ai fini del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superamento del periodo di formazione e di prov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 per il personale docente ed educativo, l’organo collegiale è chiamato ad esprimere il proprio parere con un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onente ridotta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Calibri"/>
              </a:rPr>
              <a:t>ossia senza genitori, studenti e membro esterno, ma con la presenza del Dirigente scolastico, che lo presiede, con la rappresentanza dei docenti e del docente cui sono affidate le funzioni di tutor, il quale dovrà presentare le risultanze emergenti dall’istruttoria compiuta in merito alle attività formative e alle esperienze di insegnamento del docente neo-assu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Freccia in giù 13"/>
          <p:cNvSpPr/>
          <p:nvPr/>
        </p:nvSpPr>
        <p:spPr>
          <a:xfrm>
            <a:off x="4284720" y="1417680"/>
            <a:ext cx="611280" cy="433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2" descr="http://media.giuntiscuola.it/_tdz/@media_manager/706594/?width=300"/>
          <p:cNvPicPr/>
          <p:nvPr/>
        </p:nvPicPr>
        <p:blipFill>
          <a:blip r:embed="rId1"/>
          <a:stretch/>
        </p:blipFill>
        <p:spPr>
          <a:xfrm>
            <a:off x="6167520" y="331920"/>
            <a:ext cx="2857320" cy="2171520"/>
          </a:xfrm>
          <a:prstGeom prst="rect">
            <a:avLst/>
          </a:prstGeom>
          <a:ln w="0">
            <a:noFill/>
          </a:ln>
        </p:spPr>
      </p:pic>
      <p:sp>
        <p:nvSpPr>
          <p:cNvPr id="197" name="Freccia a destra 16"/>
          <p:cNvSpPr/>
          <p:nvPr/>
        </p:nvSpPr>
        <p:spPr>
          <a:xfrm>
            <a:off x="539640" y="404640"/>
            <a:ext cx="7056720" cy="10908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cc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Freccia a destra 4"/>
          <p:cNvSpPr/>
          <p:nvPr/>
        </p:nvSpPr>
        <p:spPr>
          <a:xfrm>
            <a:off x="539640" y="723960"/>
            <a:ext cx="6799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254160" tIns="79920" bIns="173160" anchor="ctr">
            <a:noAutofit/>
          </a:bodyPr>
          <a:p>
            <a:pPr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2100" spc="-1" strike="noStrike">
                <a:solidFill>
                  <a:srgbClr val="000000"/>
                </a:solidFill>
                <a:latin typeface="Calibri"/>
              </a:rPr>
              <a:t>Comitato di Valutazion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ttangolo arrotondato 5"/>
          <p:cNvSpPr/>
          <p:nvPr/>
        </p:nvSpPr>
        <p:spPr>
          <a:xfrm>
            <a:off x="468360" y="1916280"/>
            <a:ext cx="5616360" cy="4608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Dirigente Scolastico procede alla valutazione del personale docente in periodo di formazione e di prova sulla base dell’istruttoria compiut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Calibri"/>
              </a:rPr>
              <a:t>Il parere del Comitato è obbligatorio, ma non vincolante per il Dirigente Scolastico che può discostarsene con atto motiva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Freccia in giù 13"/>
          <p:cNvSpPr/>
          <p:nvPr/>
        </p:nvSpPr>
        <p:spPr>
          <a:xfrm>
            <a:off x="4284720" y="1417680"/>
            <a:ext cx="611280" cy="433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Freccia a destra 4"/>
          <p:cNvSpPr/>
          <p:nvPr/>
        </p:nvSpPr>
        <p:spPr>
          <a:xfrm>
            <a:off x="539640" y="723960"/>
            <a:ext cx="6799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254160" tIns="79920" bIns="173160" anchor="ctr">
            <a:noAutofit/>
          </a:bodyPr>
          <a:p>
            <a:pPr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2100" spc="-1" strike="noStrike">
                <a:solidFill>
                  <a:srgbClr val="000000"/>
                </a:solidFill>
                <a:latin typeface="Calibri"/>
              </a:rPr>
              <a:t>Il Dirigente Scolastico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11" descr=""/>
          <p:cNvPicPr/>
          <p:nvPr/>
        </p:nvPicPr>
        <p:blipFill>
          <a:blip r:embed="rId1"/>
          <a:stretch/>
        </p:blipFill>
        <p:spPr>
          <a:xfrm>
            <a:off x="6443640" y="523800"/>
            <a:ext cx="2160720" cy="1465200"/>
          </a:xfrm>
          <a:prstGeom prst="rect">
            <a:avLst/>
          </a:prstGeom>
          <a:ln w="0">
            <a:noFill/>
          </a:ln>
        </p:spPr>
      </p:pic>
      <p:sp>
        <p:nvSpPr>
          <p:cNvPr id="203" name="Freccia a destra 7"/>
          <p:cNvSpPr/>
          <p:nvPr/>
        </p:nvSpPr>
        <p:spPr>
          <a:xfrm>
            <a:off x="539640" y="404640"/>
            <a:ext cx="7056720" cy="10908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cc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-108360" y="1412640"/>
            <a:ext cx="42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caso di giudizio favorevole, il Dirigente Scolastico emette provvedimento motivato di conferma in ruolo per il docente neo-assunto, ai sensi dell’art.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4 del DPR n. 275 del 8/3/9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7794-6792-490F-BE87-ACCA65D401B9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66560" y="189000"/>
            <a:ext cx="79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La conferma in ruol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6" descr="https://encrypted-tbn3.gstatic.com/images?q=tbn:ANd9GcQllixP4VKX2KbVpp90DD87IVNQ_jjMirbT7kV1GSWaO32kF0Uf61Qs1Q"/>
          <p:cNvPicPr/>
          <p:nvPr/>
        </p:nvPicPr>
        <p:blipFill>
          <a:blip r:embed="rId1"/>
          <a:stretch/>
        </p:blipFill>
        <p:spPr>
          <a:xfrm>
            <a:off x="6443640" y="1341360"/>
            <a:ext cx="1467000" cy="1513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ttps://encrypted-tbn1.gstatic.com/images?q=tbn:ANd9GcR3Dp87WpuNndsu6Qigb6NxCJyiczMw8GUCg9iIj7ylNNwlTfRVAg"/>
          <p:cNvPicPr/>
          <p:nvPr/>
        </p:nvPicPr>
        <p:blipFill>
          <a:blip r:embed="rId2"/>
          <a:stretch/>
        </p:blipFill>
        <p:spPr>
          <a:xfrm>
            <a:off x="1403280" y="4029120"/>
            <a:ext cx="1008000" cy="1560600"/>
          </a:xfrm>
          <a:prstGeom prst="rect">
            <a:avLst/>
          </a:prstGeom>
          <a:ln w="0">
            <a:noFill/>
          </a:ln>
        </p:spPr>
      </p:pic>
      <p:sp>
        <p:nvSpPr>
          <p:cNvPr id="209" name="Segnaposto contenuto 2"/>
          <p:cNvSpPr/>
          <p:nvPr/>
        </p:nvSpPr>
        <p:spPr>
          <a:xfrm>
            <a:off x="4140360" y="2349360"/>
            <a:ext cx="4824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caso di giudizio sfavorevole, il D.S. emette provvedimento motivato di ripetizione del periodo di formazione e di prova. Tale provvedimento dovrà indicare gli elementi di criticità emersi e le forme di supporto formativo e di verifica del conseguimento degli standard richiesti ai fini della conferma in ruo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1BF3-A634-4742-9F89-E6B6CAB0922F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ttangolo 2"/>
          <p:cNvSpPr/>
          <p:nvPr/>
        </p:nvSpPr>
        <p:spPr>
          <a:xfrm>
            <a:off x="1763640" y="1557360"/>
            <a:ext cx="54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Il periodo iniziale di servizio del docente, che coincide con l’anno di prova e di formazione, ha una duplice valenz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da un lato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si consolidano le basi formative  previste dal profilo docent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dall’altro si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verificano le competenze professionali del docent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, osservate nell’azione didattica e nelle attività ad essa preordinate e ad essa strumentali, nonché nell’ambito delle dinamiche organizzative dell’istituzione scolastica, al fine di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 conseguire gli standard professionali richiest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195640" y="260280"/>
            <a:ext cx="4321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Finalità dell’anno di formazione e prov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6464-61FF-420F-99F8-7BB0C340301B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66560" y="260280"/>
            <a:ext cx="61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   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Fonti normativ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89080" y="1628640"/>
            <a:ext cx="5867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LEGGE N. 270/198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art. 440 D.Lgs.vo n. 297/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324000" y="5373720"/>
            <a:ext cx="5867280" cy="7999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Istituzione corso di formazion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per i docenti neoassu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2627280" y="2565360"/>
            <a:ext cx="1219320" cy="2664000"/>
          </a:xfrm>
          <a:prstGeom prst="downArrow">
            <a:avLst>
              <a:gd name="adj1" fmla="val 50000"/>
              <a:gd name="adj2" fmla="val 24984"/>
            </a:avLst>
          </a:prstGeom>
          <a:solidFill>
            <a:srgbClr val="1f497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ttangolo arrotondato 7"/>
          <p:cNvSpPr/>
          <p:nvPr/>
        </p:nvSpPr>
        <p:spPr>
          <a:xfrm>
            <a:off x="5292720" y="1989000"/>
            <a:ext cx="3816360" cy="417672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176720"/>
              <a:gd name="textAreaBottom" fmla="*/ 3990600 h 4176720"/>
            </a:gdLst>
            <a:ahLst/>
            <a:rect l="textAreaLeft" t="textAreaTop" r="textAreaRight" b="textAreaBottom"/>
            <a:pathLst>
              <a:path w="21600" h="23639">
                <a:moveTo>
                  <a:pt x="3600" y="0"/>
                </a:moveTo>
                <a:arcTo wR="3600" hR="3600" stAng="16200000" swAng="-5400000"/>
                <a:lnTo>
                  <a:pt x="0" y="20039"/>
                </a:lnTo>
                <a:arcTo wR="3600" hR="3600" stAng="10800000" swAng="-5400000"/>
                <a:lnTo>
                  <a:pt x="18000" y="236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“</a:t>
            </a: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'anno di formazione ha inizio con l'anno scolastico dal quale decorrono le nomine e termina con la fine delle lezioni; per la sua validità è richiesto un </a:t>
            </a:r>
            <a:r>
              <a:rPr b="1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ervizio minimo di 180 giorni</a:t>
            </a: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i fini della conferma in ruolo i docenti, al termine dell'anno di formazione, discutono con il </a:t>
            </a:r>
            <a:r>
              <a:rPr b="1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itato per la valutazione del servizio una relazione sulle esperienze e sulle attività svolte.</a:t>
            </a: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Sulla base di essa e degli altri </a:t>
            </a:r>
            <a:r>
              <a:rPr b="1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ementi di valutazione forniti dal Capo d'istituto</a:t>
            </a: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il </a:t>
            </a:r>
            <a:r>
              <a:rPr b="1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itato per la valutazione del servizio esprime il parere per la conferma in ruolo</a:t>
            </a: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”.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2" descr="F-media14"/>
          <p:cNvPicPr/>
          <p:nvPr/>
        </p:nvPicPr>
        <p:blipFill>
          <a:blip r:embed="rId1"/>
          <a:stretch/>
        </p:blipFill>
        <p:spPr>
          <a:xfrm>
            <a:off x="6012000" y="281160"/>
            <a:ext cx="2736720" cy="1203120"/>
          </a:xfrm>
          <a:prstGeom prst="rect">
            <a:avLst/>
          </a:prstGeom>
          <a:ln w="0">
            <a:noFill/>
          </a:ln>
        </p:spPr>
      </p:pic>
      <p:sp>
        <p:nvSpPr>
          <p:cNvPr id="72" name="Freccia circolare a destra 8"/>
          <p:cNvSpPr/>
          <p:nvPr/>
        </p:nvSpPr>
        <p:spPr>
          <a:xfrm>
            <a:off x="900000" y="1700280"/>
            <a:ext cx="503280" cy="649080"/>
          </a:xfrm>
          <a:custGeom>
            <a:avLst/>
            <a:gdLst>
              <a:gd name="textAreaLeft" fmla="*/ 67320 w 503280"/>
              <a:gd name="textAreaRight" fmla="*/ 435960 w 503280"/>
              <a:gd name="textAreaTop" fmla="*/ 114840 h 649080"/>
              <a:gd name="textAreaBottom" fmla="*/ 47124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61" stAng="-5400000" swAng="-5400000"/>
                <a:lnTo>
                  <a:pt x="0" y="11846"/>
                </a:lnTo>
                <a:arcTo wR="21600" hR="7661" stAng="10800000" swAng="-3236756"/>
                <a:lnTo>
                  <a:pt x="16200" y="21357"/>
                </a:lnTo>
                <a:lnTo>
                  <a:pt x="21600" y="17415"/>
                </a:lnTo>
                <a:lnTo>
                  <a:pt x="16200" y="12986"/>
                </a:lnTo>
                <a:lnTo>
                  <a:pt x="16200" y="15079"/>
                </a:lnTo>
                <a:arcTo wR="21600" hR="7661" stAng="7563244" swAng="2891723"/>
                <a:lnTo>
                  <a:pt x="821" y="9754"/>
                </a:lnTo>
                <a:arcTo wR="21600" hR="7661" stAng="-10454967" swAng="5054967"/>
                <a:close/>
              </a:path>
              <a:path fill="darkenLess" w="21600" h="21600">
                <a:moveTo>
                  <a:pt x="21600" y="0"/>
                </a:moveTo>
                <a:arcTo wR="21600" hR="7661" stAng="-5400000" swAng="-5400000"/>
                <a:lnTo>
                  <a:pt x="0" y="7661"/>
                </a:lnTo>
                <a:arcTo wR="21600" hR="7661" stAng="10800000" swAng="-345033"/>
                <a:lnTo>
                  <a:pt x="821" y="9754"/>
                </a:lnTo>
                <a:arcTo wR="21600" hR="7661" stAng="-10454967" swAng="505496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35CB-1D7A-45F7-94D2-D850E5E40446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900000" y="1628640"/>
            <a:ext cx="7201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C. C.N.L. Comparto Scuola 2006/200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1692360" y="2421000"/>
            <a:ext cx="792000" cy="647640"/>
          </a:xfrm>
          <a:prstGeom prst="downArrow">
            <a:avLst>
              <a:gd name="adj1" fmla="val 50000"/>
              <a:gd name="adj2" fmla="val 24981"/>
            </a:avLst>
          </a:prstGeom>
          <a:solidFill>
            <a:srgbClr val="1f497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ttangolo arrotondato 7"/>
          <p:cNvSpPr/>
          <p:nvPr/>
        </p:nvSpPr>
        <p:spPr>
          <a:xfrm>
            <a:off x="179280" y="3284640"/>
            <a:ext cx="5832720" cy="345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T. 27 “Il profilo professionale dei docenti è costituito da 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petenze disciplinari, psicopedagogiche, metodologico-didattiche, organizzativo - relazionali 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 di 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icerca, documentazione 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 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alutazione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tra loro correlate ed interagenti, che si sviluppano col maturare dell’esperienza didattica, l’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ttività di studio 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 di 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istematizzazione della pratica didattica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I contenuti della prestazione professionale del docente si definiscono nel quadro degli obiettivi generali perseguiti dal sistema nazionale di istruzione e nel rispetto degli indirizzi delineati nel piano dell’offerta formativa della scuola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" name="Picture 9" descr="https://encrypted-tbn3.gstatic.com/images?q=tbn:ANd9GcTIZuMRPsyeh7YahLkFOqHw6n_CPXqD7pO70FhkyGDVt7iVvhT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89000"/>
            <a:ext cx="5761080" cy="1439640"/>
          </a:xfrm>
          <a:prstGeom prst="rect">
            <a:avLst/>
          </a:prstGeom>
          <a:ln w="0">
            <a:noFill/>
          </a:ln>
        </p:spPr>
      </p:pic>
      <p:sp>
        <p:nvSpPr>
          <p:cNvPr id="78" name="Rettangolo arrotondato 6"/>
          <p:cNvSpPr/>
          <p:nvPr/>
        </p:nvSpPr>
        <p:spPr>
          <a:xfrm>
            <a:off x="6156360" y="3284640"/>
            <a:ext cx="2663640" cy="3386160"/>
          </a:xfrm>
          <a:custGeom>
            <a:avLst/>
            <a:gdLst>
              <a:gd name="textAreaLeft" fmla="*/ 129960 w 2663640"/>
              <a:gd name="textAreaRight" fmla="*/ 2533680 w 2663640"/>
              <a:gd name="textAreaTop" fmla="*/ 129960 h 3386160"/>
              <a:gd name="textAreaBottom" fmla="*/ 3256200 h 3386160"/>
            </a:gdLst>
            <a:ahLst/>
            <a:rect l="textAreaLeft" t="textAreaTop" r="textAreaRight" b="textAreaBottom"/>
            <a:pathLst>
              <a:path w="21600" h="27458">
                <a:moveTo>
                  <a:pt x="3600" y="0"/>
                </a:moveTo>
                <a:arcTo wR="3600" hR="3600" stAng="16200000" swAng="-5400000"/>
                <a:lnTo>
                  <a:pt x="0" y="23858"/>
                </a:lnTo>
                <a:arcTo wR="3600" hR="3600" stAng="10800000" swAng="-5400000"/>
                <a:lnTo>
                  <a:pt x="18000" y="274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T. 68 “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er i docenti a tempo indeterminato, di nuova assunzione, l’anno di formazione trova realizzazione attraverso </a:t>
            </a:r>
            <a:r>
              <a:rPr b="1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pecifici progetti contestualizzati</a:t>
            </a: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anche con la collaborazione di reti  e/o consorzi di scuole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6659640" y="2421000"/>
            <a:ext cx="792000" cy="647640"/>
          </a:xfrm>
          <a:prstGeom prst="downArrow">
            <a:avLst>
              <a:gd name="adj1" fmla="val 50000"/>
              <a:gd name="adj2" fmla="val 24981"/>
            </a:avLst>
          </a:prstGeom>
          <a:solidFill>
            <a:srgbClr val="1f497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492A-0269-4C73-AF40-C5642C2D281E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9080" y="333360"/>
            <a:ext cx="5867280" cy="15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Legge n. 107/20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“</a:t>
            </a: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Riforma del sistema naziona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di istruzione e formazione  e delega 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il riordino delle disposizioni legislative vigenti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ttangolo arrotondato 7"/>
          <p:cNvSpPr/>
          <p:nvPr/>
        </p:nvSpPr>
        <p:spPr>
          <a:xfrm>
            <a:off x="1042920" y="2060640"/>
            <a:ext cx="3673440" cy="4221000"/>
          </a:xfrm>
          <a:custGeom>
            <a:avLst/>
            <a:gdLst>
              <a:gd name="textAreaLeft" fmla="*/ 179280 w 3673440"/>
              <a:gd name="textAreaRight" fmla="*/ 3494160 w 3673440"/>
              <a:gd name="textAreaTop" fmla="*/ 179280 h 4221000"/>
              <a:gd name="textAreaBottom" fmla="*/ 4041720 h 4221000"/>
            </a:gdLst>
            <a:ahLst/>
            <a:rect l="textAreaLeft" t="textAreaTop" r="textAreaRight" b="textAreaBottom"/>
            <a:pathLst>
              <a:path w="21600" h="24819">
                <a:moveTo>
                  <a:pt x="3600" y="0"/>
                </a:moveTo>
                <a:arcTo wR="3600" hR="3600" stAng="16200000" swAng="-5400000"/>
                <a:lnTo>
                  <a:pt x="0" y="21219"/>
                </a:lnTo>
                <a:arcTo wR="3600" hR="3600" stAng="10800000" swAng="-5400000"/>
                <a:lnTo>
                  <a:pt x="18000" y="24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a legge n. 107/2015 introduce significativi cambiamenti in materia di </a:t>
            </a:r>
            <a:r>
              <a:rPr b="1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nno  di prova </a:t>
            </a:r>
            <a:r>
              <a:rPr b="0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 </a:t>
            </a:r>
            <a:r>
              <a:rPr b="1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nno di formazione</a:t>
            </a:r>
            <a:r>
              <a:rPr b="0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I commi dal </a:t>
            </a:r>
            <a:r>
              <a:rPr b="1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15 al 120</a:t>
            </a:r>
            <a:r>
              <a:rPr b="0" i="1" lang="it-IT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trattano della materia, specificando che, dopo la nomina in ruolo, il personale docente effettua un anno di formazione e prova ai fini della conferma in ruolo</a:t>
            </a:r>
            <a:r>
              <a:rPr b="0" i="1" lang="it-IT" sz="2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2060"/>
                </a:solidFill>
                <a:latin typeface="Calibri"/>
              </a:rPr>
              <a:t>.</a:t>
            </a:r>
            <a:br>
              <a:rPr sz="20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AutoShape 10">
            <a:hlinkClick r:id="rId1"/>
          </p:cNvPr>
          <p:cNvSpPr/>
          <p:nvPr/>
        </p:nvSpPr>
        <p:spPr>
          <a:xfrm>
            <a:off x="54000" y="-1249200"/>
            <a:ext cx="3333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Picture 12" descr="http://www.documentazione.info/sites/default/files/field/image/lezione_scuola.jpg"/>
          <p:cNvPicPr/>
          <p:nvPr/>
        </p:nvPicPr>
        <p:blipFill>
          <a:blip r:embed="rId2"/>
          <a:stretch/>
        </p:blipFill>
        <p:spPr>
          <a:xfrm>
            <a:off x="6588000" y="4724280"/>
            <a:ext cx="2160720" cy="1413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4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Picture 18" descr="lezione in aula"/>
          <p:cNvPicPr/>
          <p:nvPr/>
        </p:nvPicPr>
        <p:blipFill>
          <a:blip r:embed="rId3"/>
          <a:stretch/>
        </p:blipFill>
        <p:spPr>
          <a:xfrm>
            <a:off x="6804000" y="1125360"/>
            <a:ext cx="2089080" cy="1511640"/>
          </a:xfrm>
          <a:prstGeom prst="rect">
            <a:avLst/>
          </a:prstGeom>
          <a:ln w="0">
            <a:noFill/>
          </a:ln>
        </p:spPr>
      </p:pic>
      <p:sp>
        <p:nvSpPr>
          <p:cNvPr id="88" name="Freccia circolare a destra 14"/>
          <p:cNvSpPr/>
          <p:nvPr/>
        </p:nvSpPr>
        <p:spPr>
          <a:xfrm rot="16200000">
            <a:off x="5763960" y="2261520"/>
            <a:ext cx="809640" cy="2130480"/>
          </a:xfrm>
          <a:custGeom>
            <a:avLst/>
            <a:gdLst>
              <a:gd name="textAreaLeft" fmla="*/ 108360 w 809640"/>
              <a:gd name="textAreaRight" fmla="*/ 701280 w 809640"/>
              <a:gd name="textAreaTop" fmla="*/ 456480 h 2130480"/>
              <a:gd name="textAreaBottom" fmla="*/ 1572480 h 21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61" stAng="-5400000" swAng="-5400000"/>
                <a:lnTo>
                  <a:pt x="0" y="11313"/>
                </a:lnTo>
                <a:arcTo wR="21600" hR="9261" stAng="10800000" swAng="-3536586"/>
                <a:lnTo>
                  <a:pt x="16200" y="21306"/>
                </a:lnTo>
                <a:lnTo>
                  <a:pt x="21600" y="19548"/>
                </a:lnTo>
                <a:lnTo>
                  <a:pt x="16200" y="17202"/>
                </a:lnTo>
                <a:lnTo>
                  <a:pt x="16200" y="18228"/>
                </a:lnTo>
                <a:arcTo wR="21600" hR="9261" stAng="7263414" swAng="3372406"/>
                <a:lnTo>
                  <a:pt x="133" y="10287"/>
                </a:lnTo>
                <a:arcTo wR="21600" hR="9261" stAng="-10635821" swAng="5235821"/>
                <a:close/>
              </a:path>
              <a:path fill="darkenLess" w="21600" h="21600">
                <a:moveTo>
                  <a:pt x="21600" y="0"/>
                </a:moveTo>
                <a:arcTo wR="21600" hR="9261" stAng="-5400000" swAng="-5400000"/>
                <a:lnTo>
                  <a:pt x="0" y="9261"/>
                </a:lnTo>
                <a:arcTo wR="21600" hR="9261" stAng="10800000" swAng="-164179"/>
                <a:lnTo>
                  <a:pt x="133" y="10287"/>
                </a:lnTo>
                <a:arcTo wR="21600" hR="9261" stAng="-10635821" swAng="523582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Freccia circolare a destra 15"/>
          <p:cNvSpPr/>
          <p:nvPr/>
        </p:nvSpPr>
        <p:spPr>
          <a:xfrm flipH="1" rot="16200000">
            <a:off x="5862600" y="3165120"/>
            <a:ext cx="701640" cy="2130480"/>
          </a:xfrm>
          <a:custGeom>
            <a:avLst/>
            <a:gdLst>
              <a:gd name="textAreaLeft" fmla="*/ 93960 w 701640"/>
              <a:gd name="textAreaRight" fmla="*/ 607680 w 701640"/>
              <a:gd name="textAreaTop" fmla="*/ 466560 h 2130480"/>
              <a:gd name="textAreaBottom" fmla="*/ 1576080 h 21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66" stAng="-5400000" swAng="-5400000"/>
                <a:lnTo>
                  <a:pt x="0" y="11245"/>
                </a:lnTo>
                <a:arcTo wR="21600" hR="9466" stAng="10800000" swAng="-3569678"/>
                <a:lnTo>
                  <a:pt x="16200" y="21299"/>
                </a:lnTo>
                <a:lnTo>
                  <a:pt x="21600" y="19822"/>
                </a:lnTo>
                <a:lnTo>
                  <a:pt x="16200" y="17742"/>
                </a:lnTo>
                <a:lnTo>
                  <a:pt x="16200" y="18631"/>
                </a:lnTo>
                <a:arcTo wR="21600" hR="9466" stAng="7230322" swAng="3427561"/>
                <a:lnTo>
                  <a:pt x="96" y="10355"/>
                </a:lnTo>
                <a:arcTo wR="21600" hR="9466" stAng="-10657884" swAng="5257884"/>
                <a:close/>
              </a:path>
              <a:path fill="darkenLess" w="21600" h="21600">
                <a:moveTo>
                  <a:pt x="21600" y="0"/>
                </a:moveTo>
                <a:arcTo wR="21600" hR="9466" stAng="-5400000" swAng="-5400000"/>
                <a:lnTo>
                  <a:pt x="0" y="9466"/>
                </a:lnTo>
                <a:arcTo wR="21600" hR="9466" stAng="10800000" swAng="-142116"/>
                <a:lnTo>
                  <a:pt x="96" y="10355"/>
                </a:lnTo>
                <a:arcTo wR="21600" hR="9466" stAng="-10657884" swAng="525788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214E-4953-43D1-88B6-0B4A59C048A1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097080" y="1052640"/>
            <a:ext cx="55072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Decreto Ministeriale n. 850 del 27.10.20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5219640" y="1844640"/>
            <a:ext cx="1219320" cy="3168720"/>
          </a:xfrm>
          <a:prstGeom prst="downArrow">
            <a:avLst>
              <a:gd name="adj1" fmla="val 50000"/>
              <a:gd name="adj2" fmla="val 24989"/>
            </a:avLst>
          </a:prstGeom>
          <a:solidFill>
            <a:srgbClr val="1f497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ttangolo arrotondato 7"/>
          <p:cNvSpPr/>
          <p:nvPr/>
        </p:nvSpPr>
        <p:spPr>
          <a:xfrm>
            <a:off x="34920" y="1989000"/>
            <a:ext cx="3816360" cy="309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l decreto individua 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gli </a:t>
            </a:r>
            <a:r>
              <a:rPr b="1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obiettivi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, le </a:t>
            </a:r>
            <a:r>
              <a:rPr b="1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modalità di valutazione del grado di raggiungimento 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degli stessi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e </a:t>
            </a:r>
            <a:r>
              <a:rPr b="1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ttività formative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e i  </a:t>
            </a:r>
            <a:r>
              <a:rPr b="1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riteri per la valutazione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del personale doc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d educativo in periodo di formazione e di pro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203640" y="5300640"/>
            <a:ext cx="5257800" cy="1224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Comic Sans MS"/>
                <a:ea typeface="Arial"/>
              </a:rPr>
              <a:t>emanato ai sensi dell’articolo 1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Comic Sans MS"/>
                <a:ea typeface="Arial"/>
              </a:rPr>
              <a:t>comma 118 della legge 13 luglio 2015, n. 10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7" descr="0802_convegni"/>
          <p:cNvPicPr/>
          <p:nvPr/>
        </p:nvPicPr>
        <p:blipFill>
          <a:blip r:embed="rId1"/>
          <a:stretch/>
        </p:blipFill>
        <p:spPr>
          <a:xfrm>
            <a:off x="611280" y="549360"/>
            <a:ext cx="1873080" cy="129528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pic>
        <p:nvPicPr>
          <p:cNvPr id="96" name="Picture 8" descr="https://encrypted-tbn0.gstatic.com/images?q=tbn:ANd9GcT5CDNd9dYEtKh5gIrx78Bs-9KtK7TGWXuKQ77QfSeZdNR1Utb2Y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5229360"/>
            <a:ext cx="2232000" cy="1328760"/>
          </a:xfrm>
          <a:prstGeom prst="rect">
            <a:avLst/>
          </a:prstGeom>
          <a:ln w="41400">
            <a:solidFill>
              <a:srgbClr val="ff3399"/>
            </a:solidFill>
            <a:miter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4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’obbligo contrattuale del neo-assunto comprende 2 percor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nno di Pro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nno di Forma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termini “prova” e “formazione” sono talvolta utilizzati, erroneamente, come sinonimi, sebbene sottendano istituti che hanno presupposti differen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’anno di prova assolve ad un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nteresse meramente amministrativo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’anno di formazione rispecchia la necessità d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reparare, aggiornare,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al punto di vista educativo-didattico-metodologico, il docente immesso in ruol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48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C85B-C2E2-48FF-8483-2046AF01B4B8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466560" y="260280"/>
            <a:ext cx="619308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Rapporto tra anno di prova 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  </a:t>
            </a:r>
            <a:r>
              <a:rPr b="0" lang="it-IT" sz="3000" spc="-1" strike="noStrike">
                <a:solidFill>
                  <a:srgbClr val="1f497d"/>
                </a:solidFill>
                <a:latin typeface="Tahoma"/>
              </a:rPr>
              <a:t>anno di formazione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ccia a destra 5"/>
          <p:cNvSpPr/>
          <p:nvPr/>
        </p:nvSpPr>
        <p:spPr>
          <a:xfrm>
            <a:off x="324000" y="1989000"/>
            <a:ext cx="431640" cy="287640"/>
          </a:xfrm>
          <a:prstGeom prst="rightArrow">
            <a:avLst>
              <a:gd name="adj1" fmla="val 50000"/>
              <a:gd name="adj2" fmla="val 4993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ccia a destra 6"/>
          <p:cNvSpPr/>
          <p:nvPr/>
        </p:nvSpPr>
        <p:spPr>
          <a:xfrm>
            <a:off x="250920" y="2494080"/>
            <a:ext cx="431640" cy="2872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20:25:47Z</dcterms:created>
  <dc:creator>utente</dc:creator>
  <dc:description/>
  <dc:language>en-US</dc:language>
  <cp:lastModifiedBy>Administrator</cp:lastModifiedBy>
  <dcterms:modified xsi:type="dcterms:W3CDTF">2015-11-11T10:53:38Z</dcterms:modified>
  <cp:revision>219</cp:revision>
  <dc:subject/>
  <dc:title>Diapositiva 1</dc:title>
</cp:coreProperties>
</file>